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580-04A3-447F-AA48-3C0477CE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EEE-BFF2-40BD-914C-4512330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953-AC28-4711-90AD-B82D1059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D5D-3DFF-4B98-A26E-E29EECFD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EC7-EB42-4CB4-AA4E-BA759A8D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A25-81C3-4556-9EDF-F045444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C7A-A172-4363-B7CB-1B2A5E9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29D-E3E1-433F-A385-88C41BF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669-5747-45B9-AB4E-5235615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B12-5EC6-4FB3-B590-744851B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1F5-5E04-4798-A103-AB67EBC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54F-89F3-4416-B7E8-A71A46F5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413-7024-4967-930E-90845A57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freeplaymusic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eb.mit.edu/invent/iow/slinky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914400"/>
            <a:ext cx="5867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SLINKY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3733920"/>
            <a:ext cx="327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Mel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Monday, September 27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 Black"/>
              </a:rPr>
              <a:t>Computer #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272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: Free Play Music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p Ho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/4/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reeplaymus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: Richard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James was born in Philadelph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nce sold 400 slinkys in just 90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invented machines that could coil 80 feet of steel wire into a slinky in just 10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did not mean to create the slinky in the first place, it was all an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he invented the Slinky, he did not name it, his wife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5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6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ion: The Sli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inky came out by acci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linky was invented in 19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iversary of Slinkys (1995), Richard James had sold over a quarter of a billion Slink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A used slinkys in zero-gravity physics experiments in the space shu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troops in Vietnam  used slinkys to demonstrate them as mobile radio anten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056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Slinky"/>
          <p:cNvPicPr/>
          <p:nvPr/>
        </p:nvPicPr>
        <p:blipFill>
          <a:blip r:embed="rId1"/>
          <a:stretch/>
        </p:blipFill>
        <p:spPr>
          <a:xfrm>
            <a:off x="1143000" y="1066680"/>
            <a:ext cx="5181480" cy="404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9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elsons MIT program, Slinkys, Sept. 29, 20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eb.mit.edu/invent/iow/slink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056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12Z</dcterms:created>
  <dc:creator>install</dc:creator>
  <dc:description/>
  <dc:language>en-US</dc:language>
  <cp:lastModifiedBy>install</cp:lastModifiedBy>
  <dcterms:modified xsi:type="dcterms:W3CDTF">2010-10-13T17:50:52Z</dcterms:modified>
  <cp:revision>14</cp:revision>
  <dc:subject/>
  <dc:title>Slide 1</dc:title>
</cp:coreProperties>
</file>